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9645-697B-44F7-997C-597FAF29BE4E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 Nov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S/2 Workshop 5, Houston, TX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Nov 2000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14040" y="2819520"/>
            <a:ext cx="746748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horthand defin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ferences pre-defined elements from existing EXPRESS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clarations of TYPES, ENTITIES,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RO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ERENCE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STEP toolkit will automatically generate the corresponding “long form”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TEP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004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2133720"/>
            <a:ext cx="60948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3581280"/>
            <a:ext cx="428400" cy="685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600" y="495288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0920" y="502920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720" y="22860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Short to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429000"/>
            <a:ext cx="6094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86600" y="3429000"/>
            <a:ext cx="60948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1676520"/>
            <a:ext cx="2209680" cy="17524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PM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(implem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133720"/>
            <a:ext cx="609840" cy="129528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4114800"/>
            <a:ext cx="46483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05320" y="3581280"/>
            <a:ext cx="38088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3581280"/>
            <a:ext cx="52380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4280" y="4952880"/>
            <a:ext cx="20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2800" y="5181480"/>
            <a:ext cx="20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Long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080" y="228600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C Short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5120" y="914400"/>
            <a:ext cx="863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HEMA LPM5_CC001;  -- date_and_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FROM STRUCTURAL_FRAME_SCHEMA (date_and_time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- Base Entity - frequently used in other 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FERENCE FROM STRUCTURAL_FRAME_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ordinated_universal_time_offs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cal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hort Form for CC00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143000"/>
            <a:ext cx="8686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ahead_or_beh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y_in_month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ur_in_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ute_in_hou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nth_in_year_numb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_in_minu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ar_numb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FROM STRUCTURAL_FRAME_SCHEMA leap_ye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calendar_d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id_t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_SCHE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erated from the short for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ing a STEP toolk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panded schema resul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fic to that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types or entities may be pulled i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LECTS may also be pulled i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umbering of C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001 - CC035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mmon Resour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0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1 …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d DM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102 - CC339 …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ecific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4, CC123, CC223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 particular CCC is deno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C201+CC203)”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us, a given translator might suppor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C105, (CC201+CC203)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66680" y="2362320"/>
            <a:ext cx="3657600" cy="2895480"/>
          </a:xfrm>
          <a:prstGeom prst="cloudCallout">
            <a:avLst>
              <a:gd name="adj1" fmla="val 37717"/>
              <a:gd name="adj2" fmla="val -149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327672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Ex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217980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953"/>
              <a:gd name="adj5" fmla="val 57972"/>
              <a:gd name="adj6" fmla="val -5737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2895480"/>
            <a:ext cx="1752480" cy="1752840"/>
          </a:xfrm>
          <a:prstGeom prst="ellipse">
            <a:avLst/>
          </a:prstGeom>
          <a:solidFill>
            <a:srgbClr val="ffff66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88944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7740"/>
              <a:gd name="adj5" fmla="val -24930"/>
              <a:gd name="adj6" fmla="val -69180"/>
            </a:avLst>
          </a:prstGeom>
          <a:solidFill>
            <a:srgbClr val="ffff66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CCC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200400"/>
            <a:ext cx="99072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62320" y="3200400"/>
            <a:ext cx="990360" cy="990720"/>
          </a:xfrm>
          <a:prstGeom prst="ellipse">
            <a:avLst/>
          </a:prstGeom>
          <a:noFill/>
          <a:ln w="2844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3352680"/>
            <a:ext cx="1295280" cy="129564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657600"/>
            <a:ext cx="914400" cy="9144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510552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295280"/>
            <a:ext cx="464832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4884"/>
              <a:gd name="adj5" fmla="val 451407"/>
              <a:gd name="adj6" fmla="val -16560"/>
            </a:avLst>
          </a:prstGeom>
          <a:solidFill>
            <a:srgbClr val="ffffff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ed lesser (supported)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 Scope - Impor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888"/>
              <a:gd name="adj5" fmla="val 49453"/>
              <a:gd name="adj6" fmla="val -52013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1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66"/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66"/>
            </a:solidFill>
            <a:ln w="381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CCC scope of import transl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562720" y="5486400"/>
            <a:ext cx="33526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7472"/>
              <a:gd name="adj5" fmla="val 17291"/>
              <a:gd name="adj6" fmla="val -33236"/>
            </a:avLst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</a:rPr>
              <a:t>Populated greater C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rm borrowed from ISO10303 (STEP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a logical subset of LPM/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pecify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sco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ranslator compli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have hard boundar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entities within must be supported in full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IS/2 documentation pre-defines 275 modular CC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is focused on a different base ent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ing point for defining a C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entities where pulled-in thu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it references direct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10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ies that must point at 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es those CCs that are most likely to be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elected bases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ach CC is designed to be mini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mall coherent building block within a much larger LPM/5 </a:t>
            </a:r>
            <a:r>
              <a:rPr b="1" i="1" lang="en-US" sz="2400" spc="-1" strike="noStrike">
                <a:solidFill>
                  <a:srgbClr val="00cc99"/>
                </a:solidFill>
                <a:latin typeface="Arial"/>
              </a:rPr>
              <a:t>(ato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legitimate set of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necessarily a meaningful set of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Cs can be used individually or in combination </a:t>
            </a:r>
            <a:r>
              <a:rPr b="1" i="1" lang="en-US" sz="2800" spc="-1" strike="noStrike">
                <a:solidFill>
                  <a:srgbClr val="00cc99"/>
                </a:solidFill>
                <a:latin typeface="Arial"/>
              </a:rPr>
              <a:t>(molecule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which CC Combinations to 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95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97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21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24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27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685800"/>
          <a:ext cx="8944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8944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904760" y="5715000"/>
            <a:ext cx="56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1 = entities A1+A11+A111+B1+B11+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tities in a CC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8920" y="838080"/>
          <a:ext cx="8996400" cy="519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838080"/>
                    <a:ext cx="8996400" cy="51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84920" y="54100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2 = entities B1+B12+D1+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05000"/>
              </a:lnSpc>
              <a:spcBef>
                <a:spcPts val="10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overall scope of a particular translator corresponds to a particular CCC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rrectly translat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data within that valid sub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entity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lnSpc>
                <a:spcPct val="105000"/>
              </a:lnSpc>
              <a:spcBef>
                <a:spcPts val="675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very (non OPTIONAL) attribu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lnSpc>
                <a:spcPct val="105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anslator may provide user control for exporting or importing lesser CC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3T14:59:35Z</dcterms:created>
  <dc:creator>Andrew Crowley</dc:creator>
  <dc:description/>
  <dc:language>en-US</dc:language>
  <cp:lastModifiedBy>Andrew Crowley</cp:lastModifiedBy>
  <dcterms:modified xsi:type="dcterms:W3CDTF">2000-11-14T14:55:29Z</dcterms:modified>
  <cp:revision>8</cp:revision>
  <dc:subject/>
  <dc:title>CIS/2 Workshop 5, Houston, TX 13th Nov 2000</dc:title>
</cp:coreProperties>
</file>